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0B66-CFB0-4D95-B6D9-923AADC17CD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A232-B828-4F12-BC73-55A6392664B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D90-D483-45C7-A75E-B840CC1C05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BB1F-1ABC-4BCF-945A-090282C9E3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You will have heard about crust thinning and the subsequent reduction in capacity of land to support buildings and this explains how that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53C9-8BDA-4189-AA41-4E7B77433BE8}" type="slidenum">
              <a:rPr b="0" lang="en-N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32B6-6892-49AD-9F56-C31080D9639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143B-487C-4EDB-80F9-BF81799643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88B8-9CBA-4CB1-95BD-A9914C95866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xtent of investigation and testing – see 6.2.1 NZGS – investigation plan - #s of CPTs per site – devp vs. new dwell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oftwar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lasticity limit testing and particle distribution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spects of guidelines agree to use – parameters, approaches from various section – PGA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port on three aspects – see page 15 NZGS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What is deemed significant/insignificant/excess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tain SLS and ULS current practice and requirement? Use TC1 2 and 3 criteria for SLS and ULS design (table 3.1 DBH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auranga related design guidance document? Based on DB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E72-B040-4833-B3EB-CF789EFD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6F3-B0CB-4E40-A869-30711F72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E4A-6546-4C25-A6B7-EDD071A7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6A7-AA69-4245-B127-1B367F5C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BFE-E93F-4B12-A297-7068EA9B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2B0-A5C0-4022-8204-E31FABD5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BD2-2255-42D6-9661-7359734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914-DE78-4620-9740-F86F945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100-2DDB-4C39-9F74-9BE9982F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2D6-161C-46D3-BAD5-10FDE285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EC0-799D-4DB8-9439-6B8C8F0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9E5-8B51-4A67-87C9-97A2750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54E4-8454-4F6E-889C-64463EF55015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footer_photos"/>
          <p:cNvPicPr/>
          <p:nvPr/>
        </p:nvPicPr>
        <p:blipFill>
          <a:blip r:embed="rId2"/>
          <a:stretch/>
        </p:blipFill>
        <p:spPr>
          <a:xfrm>
            <a:off x="0" y="557208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B7C-F9B4-438E-8F8F-F6E7923E4DE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ique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Elected Member Worksh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SmartGrowt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CC Cha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0 April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468360" y="4437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q.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= Liquefaction effects ( inc. lateral sp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= lateral spread ground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19CA-6E48-45CD-83A6-7A2FA052F4A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What’s next – TC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rth desig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rth / geo-professional workshop – review foundation design sol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inal internal review and sign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-present to Developer / Build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et implementation date – 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mplement BA procedure – mid / late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ndertake additional research work – verify 2002 / 2006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martGrowth Review - Liquef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isting liquefaction maps (2003 / 2006) – show similar soils profiles to existing develop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kely ground conditions – sands, organic deposits, probable similar ground water levels – (Bell Road e.gs. - sand mining, RR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G Review &amp; Liquefaction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nt’d. 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NS Proposal – 3 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pdate regional Lq / Ls maps (1 – 3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tailed Lq / Ls assessment for future u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tailed Lq / Ls assessment for existing urban ( both 3 – 20y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2002 / 2006 approach include Chch finding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ree with approach – review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8AD4-6DE2-4ED9-B33B-EA65E69CD09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iscussion /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155-A84E-4F36-A666-91BC6615BB4A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iquefaction – The Basics 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What is liquefa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me soils, when located below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ter table, start acting like a liquid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are severely shaken or vib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73AF-F39C-448D-A292-C4BE0488CEE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iquefaction – The Basics </a:t>
            </a:r>
            <a:br>
              <a:rPr sz="3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What has to be pres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granular soil with little or no clay material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soil particles are mainly between 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100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m &amp; 1 mm in size – “coarse silts” to “fine sa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il is und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rthquake of large enough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haken not Stirred! … lique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traight Connector 14"/>
          <p:cNvSpPr/>
          <p:nvPr/>
        </p:nvSpPr>
        <p:spPr>
          <a:xfrm>
            <a:off x="468360" y="3429000"/>
            <a:ext cx="8136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11280" y="3429000"/>
            <a:ext cx="8137440" cy="151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1"/>
          <p:cNvGrpSpPr/>
          <p:nvPr/>
        </p:nvGrpSpPr>
        <p:grpSpPr>
          <a:xfrm>
            <a:off x="2987640" y="1484280"/>
            <a:ext cx="2879640" cy="2089080"/>
            <a:chOff x="2987640" y="1484280"/>
            <a:chExt cx="2879640" cy="2089080"/>
          </a:xfrm>
        </p:grpSpPr>
        <p:sp>
          <p:nvSpPr>
            <p:cNvPr id="65" name="Rectangle 2"/>
            <p:cNvSpPr/>
            <p:nvPr/>
          </p:nvSpPr>
          <p:spPr>
            <a:xfrm>
              <a:off x="3348000" y="2349360"/>
              <a:ext cx="2158920" cy="1079640"/>
            </a:xfrm>
            <a:prstGeom prst="rect">
              <a:avLst/>
            </a:prstGeom>
            <a:solidFill>
              <a:srgbClr val="60606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Isosceles Triangle 3"/>
            <p:cNvSpPr/>
            <p:nvPr/>
          </p:nvSpPr>
          <p:spPr>
            <a:xfrm>
              <a:off x="2987640" y="1484280"/>
              <a:ext cx="2879640" cy="865080"/>
            </a:xfrm>
            <a:prstGeom prst="triangle">
              <a:avLst>
                <a:gd name="adj" fmla="val 50000"/>
              </a:avLst>
            </a:prstGeom>
            <a:blipFill rotWithShape="0">
              <a:blip r:embed="rId1">
                <a:alphaModFix amt="59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3348000" y="3429000"/>
              <a:ext cx="431640" cy="144360"/>
            </a:xfrm>
            <a:prstGeom prst="rect">
              <a:avLst/>
            </a:prstGeom>
            <a:solidFill>
              <a:srgbClr val="60606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5075280" y="3429000"/>
              <a:ext cx="431640" cy="144360"/>
            </a:xfrm>
            <a:prstGeom prst="rect">
              <a:avLst/>
            </a:prstGeom>
            <a:solidFill>
              <a:srgbClr val="606060"/>
            </a:solidFill>
            <a:ln w="25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6"/>
          <p:cNvSpPr/>
          <p:nvPr/>
        </p:nvSpPr>
        <p:spPr>
          <a:xfrm>
            <a:off x="611280" y="4508640"/>
            <a:ext cx="8137440" cy="15127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684360" y="4076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Non-liquefying C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755640" y="5084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Liquefying So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le 3"/>
          <p:cNvSpPr/>
          <p:nvPr/>
        </p:nvSpPr>
        <p:spPr>
          <a:xfrm>
            <a:off x="590400" y="90360"/>
            <a:ext cx="82296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Arial"/>
                <a:ea typeface="Arial"/>
              </a:rPr>
              <a:t>Crust thinning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684360" y="30686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  <a:ea typeface="Arial"/>
              </a:rPr>
              <a:t>Original Ground Su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sosceles Triangle 19"/>
          <p:cNvSpPr/>
          <p:nvPr/>
        </p:nvSpPr>
        <p:spPr>
          <a:xfrm>
            <a:off x="6948360" y="3284640"/>
            <a:ext cx="468360" cy="144360"/>
          </a:xfrm>
          <a:prstGeom prst="triangle">
            <a:avLst>
              <a:gd name="adj" fmla="val 50000"/>
            </a:avLst>
          </a:prstGeom>
          <a:solidFill>
            <a:srgbClr val="1616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21"/>
          <p:cNvSpPr/>
          <p:nvPr/>
        </p:nvSpPr>
        <p:spPr>
          <a:xfrm>
            <a:off x="7162920" y="3419640"/>
            <a:ext cx="1440" cy="1377720"/>
          </a:xfrm>
          <a:prstGeom prst="line">
            <a:avLst/>
          </a:prstGeom>
          <a:ln w="101520">
            <a:solidFill>
              <a:srgbClr val="1616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0"/>
          <p:cNvSpPr/>
          <p:nvPr/>
        </p:nvSpPr>
        <p:spPr>
          <a:xfrm>
            <a:off x="6732720" y="4653000"/>
            <a:ext cx="3603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2"/>
          <p:cNvSpPr/>
          <p:nvPr/>
        </p:nvSpPr>
        <p:spPr>
          <a:xfrm flipH="1">
            <a:off x="7235280" y="4653000"/>
            <a:ext cx="3603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24"/>
          <p:cNvCxnSpPr/>
          <p:nvPr/>
        </p:nvCxnSpPr>
        <p:spPr>
          <a:xfrm flipV="1">
            <a:off x="7162920" y="4654080"/>
            <a:ext cx="216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Straight Arrow Connector 26"/>
          <p:cNvCxnSpPr/>
          <p:nvPr/>
        </p:nvCxnSpPr>
        <p:spPr>
          <a:xfrm flipV="1">
            <a:off x="7162920" y="4005360"/>
            <a:ext cx="2160" cy="5763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Straight Connector 28"/>
          <p:cNvSpPr/>
          <p:nvPr/>
        </p:nvSpPr>
        <p:spPr>
          <a:xfrm>
            <a:off x="611280" y="4508640"/>
            <a:ext cx="8137440" cy="0"/>
          </a:xfrm>
          <a:prstGeom prst="line">
            <a:avLst/>
          </a:prstGeom>
          <a:ln w="7632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9"/>
          <p:cNvSpPr/>
          <p:nvPr/>
        </p:nvSpPr>
        <p:spPr>
          <a:xfrm>
            <a:off x="395280" y="4508640"/>
            <a:ext cx="8137440" cy="0"/>
          </a:xfrm>
          <a:prstGeom prst="line">
            <a:avLst/>
          </a:prstGeom>
          <a:ln w="7632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0"/>
          <p:cNvSpPr/>
          <p:nvPr/>
        </p:nvSpPr>
        <p:spPr>
          <a:xfrm>
            <a:off x="755640" y="4508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daedef"/>
                </a:solidFill>
                <a:latin typeface="Arial"/>
                <a:ea typeface="Arial"/>
              </a:rPr>
              <a:t>Ground Water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1"/>
          <p:cNvSpPr/>
          <p:nvPr/>
        </p:nvSpPr>
        <p:spPr>
          <a:xfrm>
            <a:off x="324000" y="88884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hase 1 – Ground Surface Sett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2"/>
          <p:cNvSpPr/>
          <p:nvPr/>
        </p:nvSpPr>
        <p:spPr>
          <a:xfrm>
            <a:off x="395280" y="868320"/>
            <a:ext cx="85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hase 2 – Structures Sink into the Ground (Bearing Capacity Fail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35"/>
          <p:cNvSpPr/>
          <p:nvPr/>
        </p:nvSpPr>
        <p:spPr>
          <a:xfrm flipH="1">
            <a:off x="5579640" y="3824280"/>
            <a:ext cx="1800" cy="75708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Triangle 37"/>
          <p:cNvSpPr/>
          <p:nvPr/>
        </p:nvSpPr>
        <p:spPr>
          <a:xfrm>
            <a:off x="5508720" y="3789360"/>
            <a:ext cx="1150920" cy="87480"/>
          </a:xfrm>
          <a:prstGeom prst="rtTriangl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9"/>
          <p:cNvSpPr/>
          <p:nvPr/>
        </p:nvSpPr>
        <p:spPr>
          <a:xfrm>
            <a:off x="5219640" y="4508640"/>
            <a:ext cx="3603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40"/>
          <p:cNvCxnSpPr/>
          <p:nvPr/>
        </p:nvCxnSpPr>
        <p:spPr>
          <a:xfrm flipV="1">
            <a:off x="5578920" y="4075920"/>
            <a:ext cx="252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Straight Connector 42"/>
          <p:cNvSpPr/>
          <p:nvPr/>
        </p:nvSpPr>
        <p:spPr>
          <a:xfrm flipH="1">
            <a:off x="3276720" y="3824280"/>
            <a:ext cx="1440" cy="757080"/>
          </a:xfrm>
          <a:prstGeom prst="line">
            <a:avLst/>
          </a:prstGeom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Triangle 43"/>
          <p:cNvSpPr/>
          <p:nvPr/>
        </p:nvSpPr>
        <p:spPr>
          <a:xfrm flipH="1">
            <a:off x="2194920" y="3789360"/>
            <a:ext cx="1152360" cy="87480"/>
          </a:xfrm>
          <a:prstGeom prst="rtTriangl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44"/>
          <p:cNvSpPr/>
          <p:nvPr/>
        </p:nvSpPr>
        <p:spPr>
          <a:xfrm flipH="1">
            <a:off x="3276720" y="4508640"/>
            <a:ext cx="358560" cy="280800"/>
          </a:xfrm>
          <a:custGeom>
            <a:avLst/>
            <a:gdLst/>
            <a:ahLst/>
            <a:rect l="l" t="t" r="r" b="b"/>
            <a:pathLst>
              <a:path w="360040" h="280987">
                <a:moveTo>
                  <a:pt x="0" y="280987"/>
                </a:moveTo>
                <a:cubicBezTo>
                  <a:pt x="42862" y="279400"/>
                  <a:pt x="85871" y="280108"/>
                  <a:pt x="128587" y="276225"/>
                </a:cubicBezTo>
                <a:cubicBezTo>
                  <a:pt x="138586" y="275316"/>
                  <a:pt x="147637" y="269875"/>
                  <a:pt x="157162" y="266700"/>
                </a:cubicBezTo>
                <a:cubicBezTo>
                  <a:pt x="161925" y="265112"/>
                  <a:pt x="167273" y="264722"/>
                  <a:pt x="171450" y="261937"/>
                </a:cubicBezTo>
                <a:cubicBezTo>
                  <a:pt x="176212" y="258762"/>
                  <a:pt x="180476" y="254667"/>
                  <a:pt x="185737" y="252412"/>
                </a:cubicBezTo>
                <a:cubicBezTo>
                  <a:pt x="191753" y="249834"/>
                  <a:pt x="198493" y="249448"/>
                  <a:pt x="204787" y="247650"/>
                </a:cubicBezTo>
                <a:cubicBezTo>
                  <a:pt x="209614" y="246271"/>
                  <a:pt x="214312" y="244475"/>
                  <a:pt x="219075" y="242887"/>
                </a:cubicBezTo>
                <a:cubicBezTo>
                  <a:pt x="236674" y="216490"/>
                  <a:pt x="218531" y="237368"/>
                  <a:pt x="242887" y="223837"/>
                </a:cubicBezTo>
                <a:cubicBezTo>
                  <a:pt x="252894" y="218277"/>
                  <a:pt x="271462" y="204787"/>
                  <a:pt x="271462" y="204787"/>
                </a:cubicBezTo>
                <a:cubicBezTo>
                  <a:pt x="274637" y="200025"/>
                  <a:pt x="277323" y="194897"/>
                  <a:pt x="280987" y="190500"/>
                </a:cubicBezTo>
                <a:cubicBezTo>
                  <a:pt x="285299" y="185326"/>
                  <a:pt x="292004" y="182100"/>
                  <a:pt x="295275" y="176212"/>
                </a:cubicBezTo>
                <a:cubicBezTo>
                  <a:pt x="300151" y="167435"/>
                  <a:pt x="299231" y="155991"/>
                  <a:pt x="304800" y="147637"/>
                </a:cubicBezTo>
                <a:lnTo>
                  <a:pt x="314325" y="133350"/>
                </a:lnTo>
                <a:cubicBezTo>
                  <a:pt x="327994" y="78669"/>
                  <a:pt x="308881" y="146050"/>
                  <a:pt x="328612" y="100012"/>
                </a:cubicBezTo>
                <a:cubicBezTo>
                  <a:pt x="331190" y="93996"/>
                  <a:pt x="331577" y="87256"/>
                  <a:pt x="333375" y="80962"/>
                </a:cubicBezTo>
                <a:cubicBezTo>
                  <a:pt x="338157" y="64225"/>
                  <a:pt x="347662" y="45547"/>
                  <a:pt x="347662" y="28575"/>
                </a:cubicBezTo>
                <a:lnTo>
                  <a:pt x="3600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45"/>
          <p:cNvCxnSpPr/>
          <p:nvPr/>
        </p:nvCxnSpPr>
        <p:spPr>
          <a:xfrm flipV="1">
            <a:off x="3276720" y="4075920"/>
            <a:ext cx="216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TextBox 46"/>
          <p:cNvSpPr/>
          <p:nvPr/>
        </p:nvSpPr>
        <p:spPr>
          <a:xfrm>
            <a:off x="-63360" y="868320"/>
            <a:ext cx="85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hase 3 – Soil Regains its Original Strength (Resolidif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3 -0.01434 C -0.04462 -0.01434 -0.05886 -0.01318 -0.05886 -0.01249 C -0.05886 -0.01179 -0.04497 -0.01133 -0.02639 -0.01133 C -0.00782 -0.01133 0.00798 -0.01179 0.00798 -0.01249 C 0.00798 -0.01318 -0.00834 -0.01341 -0.02691 -0.01295 C -0.04532 -0.01225 -0.05886 -0.01133 -0.05886 -0.01064 C -0.05886 -0.00994 -0.04462 -0.00948 -0.02639 -0.00948 C -0.00782 -0.00948 0.00798 -0.00994 0.00798 -0.01064 C 0.00798 -0.01133 -0.00834 -0.01156 -0.02674 -0.0111 C -0.04532 -0.01064 -0.05886 -0.00971 -0.05886 -0.00879 C -0.05886 -0.00809 -0.04462 -0.00763 -0.02605 -0.00763 C -0.00782 -0.00763 0.00798 -0.00809 0.00798 -0.00879 C 0.00798 -0.00971 -0.00834 -0.00971 -0.02674 -0.00925 C -0.04497 -0.00879 -0.05886 -0.00786 -0.05886 -0.00694 C -0.05886 -0.00647 -0.04428 -0.00578 -0.02605 -0.00578 C -0.00712 -0.00578 0.00798 -0.00647 0.00798 -0.00694 C 0.00798 -0.00786 -0.00799 -0.00809 -0.02639 -0.0074 C -0.04462 -0.00694 -0.05886 -0.00601 -0.05886 -0.00509 C -0.05886 -0.00462 -0.04428 -0.00393 -0.0257 -0.00393 C -0.00712 -0.00393 0.00798 -0.00462 0.00798 -0.00509 C 0.00798 -0.00601 -0.00799 -0.00624 -0.02639 -0.00555 C -0.04462 -0.00509 -0.05886 -0.00416 -0.05886 -0.00347 C -0.05886 -0.00277 -0.0441 -0.00208 -0.0257 -0.00208 C -0.00712 -0.00208 0.00798 -0.00277 0.00798 -0.00347 C 0.00798 -0.00416 -0.00782 -0.00439 -0.02639 -0.0037 C -0.04462 -0.00324 -0.05886 -0.00231 -0.05886 -0.00162 C -0.05886 -0.00092 -0.0441 -0.00023 -0.02553 -0.00023 C -0.00695 -0.00023 0.00798 -0.00092 0.00798 -0.00162 C 0.00798 -0.00231 -0.00782 -0.00254 -0.02605 -0.00185 C -0.04428 -0.00162 -0.05903 -0.00046 -0.05886 0.00023 C -0.05851 0.00093 -0.0441 0.00162 -0.02553 0.00162 C -0.00695 0.00162 0.00798 0.00093 0.00798 -2.51619E-006 C 0.00798 -0.00046 -0.00712 -0.00069 -0.02553 -2.51619E-006 E">
                                      <p:cBhvr>
                                        <p:cTn id="1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8 -0.00509 C -0.04445 -0.00486 -0.05886 -0.0037 -0.05886 -0.00277 C -0.05886 -0.00185 -0.0448 -0.00139 -0.02605 -0.00139 C -0.00712 -0.00139 0.00885 -0.00185 0.00885 -0.00277 C 0.00885 -0.0037 -0.00782 -0.00393 -0.02657 -0.00347 C -0.04514 -0.00277 -0.05886 -0.00139 -0.05886 -0.00069 C -0.05886 0.00023 -0.04445 0.00069 -0.02605 0.00069 C -0.00712 0.00069 0.00885 0.00023 0.00885 -0.00069 C 0.00885 -0.00139 -0.00782 -0.00185 -0.02622 -0.00116 C -0.04514 -0.00046 -0.05886 0.00069 -0.05886 0.00162 C -0.05886 0.00231 -0.04445 0.00301 -0.0257 0.00301 C -0.00712 0.00301 0.00885 0.00231 0.00885 0.00162 C 0.00885 0.00069 -0.00782 0.00046 -0.02622 0.00093 C -0.0448 0.00162 -0.05886 0.00278 -0.05886 0.0037 C -0.05886 0.00439 -0.0441 0.00509 -0.0257 0.00509 C -0.0066 0.00509 0.00885 0.00439 0.00885 0.0037 C 0.00885 0.00278 -0.00747 0.00254 -0.02605 0.00324 C -0.04445 0.0037 -0.05886 0.00486 -0.05886 0.00578 C -0.05886 0.00671 -0.0441 0.0074 -0.02535 0.0074 C -0.0066 0.0074 0.00885 0.00671 0.00885 0.00578 C 0.00885 0.00486 -0.00747 0.00463 -0.02605 0.00532 C -0.04445 0.00578 -0.05886 0.00717 -0.05886 0.00786 C -0.05886 0.00879 -0.04393 0.00948 -0.02535 0.00948 C -0.0066 0.00948 0.00885 0.00879 0.00885 0.00786 C 0.00885 0.00717 -0.00712 0.00694 -0.02605 0.0074 C -0.04445 0.0081 -0.05886 0.00925 -0.05886 0.00995 C -0.05886 0.01087 -0.04393 0.01156 -0.02518 0.01156 C -0.00625 0.01156 0.00885 0.01087 0.00885 0.00995 C 0.00885 0.00925 -0.00712 0.00902 -0.0257 0.00971 C -0.0441 0.01041 -0.05903 0.01133 -0.05886 0.01226 C -0.05851 0.01295 -0.04393 0.01388 -0.02518 0.01388 C -0.00625 0.01388 0.00885 0.01295 0.00885 0.01203 C 0.00885 0.01133 -0.0066 0.01133 -0.02518 0.0118 E">
                                      <p:cBhvr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1758E-006 C -0.01805 -1.01758E-006 -0.03125 0.00093 -0.03125 0.00185 C -0.03125 0.00278 -0.01823 0.00301 -0.00087 0.00301 C 0.01667 0.00301 0.0316 0.00278 0.0316 0.00185 C 0.0316 0.00093 0.01615 0.00093 -0.00139 0.00139 C -0.01857 0.00185 -0.03125 0.00301 -0.03125 0.00347 C -0.03125 0.0044 -0.01805 0.00509 -0.00087 0.00509 C 0.01667 0.00509 0.0316 0.0044 0.0316 0.00347 C 0.0316 0.00301 0.01615 0.00278 -0.00104 0.00324 C -0.01857 0.0037 -0.03125 0.00463 -0.03125 0.00555 C -0.03125 0.00648 -0.01805 0.00694 -0.00052 0.00694 C 0.01667 0.00694 0.0316 0.00648 0.0316 0.00555 C 0.0316 0.00509 0.01615 0.00463 -0.00104 0.00509 C -0.01823 0.00555 -0.03125 0.00671 -0.03125 0.00717 C -0.03125 0.0081 -0.01771 0.00879 -0.00052 0.00879 C 0.01719 0.00879 0.0316 0.0081 0.0316 0.00717 C 0.0316 0.00671 0.01632 0.00648 -0.00087 0.00694 C -0.01805 0.0074 -0.03125 0.00833 -0.03125 0.00925 C -0.03125 0.01018 -0.01771 0.01041 -0.00017 0.01041 C 0.01719 0.01041 0.0316 0.00971 0.0316 0.00925 C 0.0316 0.00833 0.01632 0.00833 -0.00087 0.00879 C -0.01805 0.00925 -0.03125 0.01041 -0.03125 0.01087 C -0.03125 0.0118 -0.01736 0.01249 -0.00017 0.01249 C 0.01719 0.01249 0.0316 0.0118 0.0316 0.01087 C 0.0316 0.01041 0.01667 0.01018 -0.00087 0.01064 C -0.01805 0.0111 -0.03125 0.01203 -0.03125 0.01295 C -0.03125 0.01341 -0.01736 0.01411 -1.38889E-006 0.01411 C 0.01754 0.01411 0.0316 0.01341 0.0316 0.01295 C 0.0316 0.01203 0.01667 0.01203 -0.00052 0.01249 C -0.01771 0.01295 -0.03142 0.01411 -0.03125 0.01457 C -0.03107 0.0155 -0.01736 0.01619 -1.38889E-006 0.01619 C 0.01754 0.01619 0.0316 0.01526 0.0316 0.01457 C 0.0316 0.01411 0.01719 0.01388 -1.38889E-006 0.01434 E">
                                      <p:cBhvr>
                                        <p:cTn id="1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d4d07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1064 L -1.38889E-006 0.05758 E">
                                      <p:cBhvr>
                                        <p:cTn id="30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18 0.00532 L -0.02518 0.05759 E">
                                      <p:cBhvr>
                                        <p:cTn id="35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5.20231E-007 L -0.00018 0.04717 E">
                                      <p:cBhvr>
                                        <p:cTn id="37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5000" fill="hold"/>
                                        <p:tgtEl>
                                          <p:spTgt spid="7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00034 0.03357 E">
                                      <p:cBhvr>
                                        <p:cTn id="44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5758 L -1.38889E-006 0.09968 E">
                                      <p:cBhvr>
                                        <p:cTn id="7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1.11111E-006 L 2.22222E-006 -0.01574 E">
                                      <p:cBhvr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1.11111E-006 L 2.22222E-006 -0.01574 E">
                                      <p:cBhvr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cd5b5"/>
                                      </p:to>
                                    </p:animClr>
                                    <p:set>
                                      <p:cBhvr>
                                        <p:cTn id="14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0F57-1956-4D2B-9889-E00E518E7D8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hat have we been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12D-5D5D-43FE-BD9D-0CAA8FCD1E5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eived advice from Cat 1 geotechs – 1998 to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NS / Opus Microzoning Reports – 2003 and 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iled for Lifelines and planning purposes respectively – 500 &amp; 2500yr return period e/qu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Used historic geo &amp; GCR reports; very limited testing; large scale geo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 quake sources – risk map based on Tga Local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nd damage map for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s susceptible to Lq.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none, minor, limited, moderate, large, major,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 - 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mino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lt; 100mm &amp; small lateral sprea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	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moderat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100mm – 300mm &amp; &lt; 50m significant Ls, 50 – 100m minor L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	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extensiv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 300mm &amp; &lt; 50m extensive Ls, 50 – 200m significant LS; </a:t>
            </a:r>
            <a:r>
              <a:rPr b="0" lang="en-NZ" sz="2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balance area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very ex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d map comp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have we been doing?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Geotech reporting – RC and s224 – short t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viewed technical info – early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viewed statutory requirements – RMA / 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3 Geo-professional workshop – agreed proposed development approach and assessment criteria – April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2 Developer / Building Industry workshop – reviewed &amp; approach agr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2 Meet - F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MA procedure – implemented – May 2012 (low compliance / development cost impa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09 March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8B55-F323-41C4-9A97-5DAE230C4C8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greed Assessment Guid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uideline published - NZ Geotech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uidanc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te investigation, assessing, effects &amp; re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ils properties based on past practice / experience / testing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s NZS 1170 to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ound acceleration (7.5 quake);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S (25 yr event, structure must be repairable) &amp; ULS (500 yr event, structure not repairable but must not collap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8:57:34Z</dcterms:created>
  <dc:creator>dufus</dc:creator>
  <dc:description/>
  <dc:language>en-US</dc:language>
  <cp:lastModifiedBy>tdcguest</cp:lastModifiedBy>
  <dcterms:modified xsi:type="dcterms:W3CDTF">2016-08-09T02:49:30Z</dcterms:modified>
  <cp:revision>341</cp:revision>
  <dc:subject/>
  <dc:title>Slide 1</dc:title>
</cp:coreProperties>
</file>